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73D5-4BB5-47A6-9B71-B22F9E474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17B-ED09-41AE-9281-9532FFAF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CD0-A322-48CB-B879-C46F8A97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C01-9E92-4B0A-8F91-A4E931A2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D1C-659B-4A3D-BD67-438EE9C0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296-1A79-4A69-8386-3D5D3BED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7EF-860B-4E1B-9A88-833FF117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C1C-0458-4CD3-8C81-F701DD74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70A-5D9E-4B41-9800-6CC31897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A71-1758-4B41-B36F-98FED995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FE8-F098-4774-8703-D490FB30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B7A-DA1D-4F56-B970-A51020FA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8F9-E237-4975-A2C3-B9099291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4D0A-0117-4873-8743-7022880FF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mplantation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embryos fertilised by IVF before they are implanted into the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predict adult-onset diseases such as Huntingt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stimate the risk of developing cancer or Alzheimer’s disease as an ad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/Identity 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g. determine the father of an individual (paternit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04:49Z</dcterms:created>
  <dc:creator>ROSI JELFS</dc:creator>
  <dc:description/>
  <dc:language>en-US</dc:language>
  <cp:lastModifiedBy>LEGION2</cp:lastModifiedBy>
  <dcterms:modified xsi:type="dcterms:W3CDTF">2016-01-12T10:56:23Z</dcterms:modified>
  <cp:revision>15</cp:revision>
  <dc:subject/>
  <dc:title>GENETIC SCREENING</dc:title>
</cp:coreProperties>
</file>